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E2592-E301-4C3B-9F34-3C8987460A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3EC9EC-AF0F-40A9-90E6-6FD6383BB9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3DCB42-050B-4182-8913-43599E8A2F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EAD6AC-6131-48D0-8B37-3F02343CF2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6ADA7-4F7B-424D-A04C-9A0B4F147D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C9414-3900-4A11-B905-09550CD3FD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88373D-A903-4C2C-B05A-AD37808DFF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42C460-3E9E-4FA4-812A-7CBC1CDB84A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38B88-918C-4F5F-ACFE-F15C664177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D1082-5FCE-479F-8F0A-63BAF4E2A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A123-BAE0-4A2E-9EC9-BB7C4979E6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854D0-3FFA-4DB8-8BA3-91A128A26F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2548F-FA80-493C-93BA-1F842D3CEFA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6DC14-A2DA-4C52-8692-B16F041FF0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82B63-D0A1-4DF1-973F-1CDCCB984D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95F5-9541-4382-9943-A66A0600B1F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793C-EDBD-4E9F-98C2-AA4415B791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B9266-A980-46C1-A8B1-FAC7E4DB06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7D87-A8E1-44FB-99B9-33E18369588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D329-3A92-401C-BE41-96C464903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C4FA-C88A-4AAC-96C7-D3E61F9CBB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E8F1D-5F23-4C2B-8B62-94340E383A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73E57-C316-4AA3-B1D5-2706DF32EC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D7CBF-839B-4289-B8AD-91F7FB2055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6B816-3B17-4A5E-8A47-C0D29CA3A9F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C4E4D-E869-4638-82E5-FA0075EEAB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CF1EC-DE06-48E6-B286-A8AA2F88CF8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F3FF8-B692-4CC1-A9DA-2A9AE53274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005EA-477B-4569-B9E2-51F96DA8FD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69797-ED4B-4D2B-96C1-40D1C13AB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27D6-26E7-490A-95EF-9BEEDE6750D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B1CA7-15B8-411A-BDC0-2C4522959CB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413DF-817E-422E-985E-E837A868B54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C056F-C19A-44C7-A409-ED850900D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3076-36CE-4758-918A-FC7EAB2068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97A5-24A1-4BE6-8AC9-A8F4879D3D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5B3B-3385-414E-B273-DB85484648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52C4-76C9-46AC-B36B-4DFE6AD26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BE30-8045-4303-B8B1-12F7D4F238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3EA7-AAC6-413B-BC23-5788AFFB3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8B79-C78F-498A-87F1-6E1876FC2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D6E1-6AED-43F0-8F0D-E2F4CC06BC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149D-29B0-4EDF-A122-B4B122452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A208-B9F3-4662-BBEF-9F5A6BBB17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05E1-AD91-4762-AEA4-8508A4EA91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3086A-34F2-4182-A14A-CF0E0B2FB9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DD32-52CE-4028-807F-E9F60B4368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F1EC9-5D6C-456B-9E7A-A45896F2D8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0B68B-14C2-4A33-885A-543E20A2A9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7C76C-86CD-4CDD-938B-3C3B056E0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FF41-512C-459D-8AAF-8CD639EE83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499AA-681A-4EAF-9401-C0F5F8D5E0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E2D37-4CA8-4650-A537-A9AB2D6A53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EBCC8-C6C0-4A92-910A-8A492A606A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A77B5-AB13-4A39-9425-C050341992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5EFA-0E54-4E3C-A9E7-4D9586F02D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668C4-3A2F-4D3F-999A-4F71096C0A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637-9844-49C1-9CC8-214810BB20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0DEC-C679-418A-8629-DDBA2DB48E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7314-1BE7-47A1-919A-6CB6FBA59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7F8D-0E44-4980-834C-DC6073FEA4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004-1B4F-42B3-86B2-49B8B92763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5284-9B6E-4D52-877A-EB643F1F3B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2A0A-8532-4A5F-A904-6F76AF7D4D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80F9-AFD7-40DC-9134-ECE81A0E95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6EA8-0D77-45A0-A5F7-2A9F47278C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5931-C9BD-43F4-ADC0-A198830427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C85-5D84-4648-9F2D-4518C35AB5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FDFC-3448-47D4-9AC1-9C45F491C3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47E60-238D-48E2-AF54-A619AA71F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5EC34-0886-4572-BC10-5DBB1C5F8B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93653-168B-40AD-B789-1E986B7912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F65D4-5FE1-4223-A144-8DAEEDE64B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82FCD-8F14-4D5D-9F38-3219EFEB2B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A5964-43E7-4AFF-B05A-1C79D488F1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FEBB8-2414-48AE-B721-25BF2F9E8F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CB807-5A55-44C2-9C21-32A904F9E6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A54A6-A72A-46A4-B9FE-58FC6ADE46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4BB7B-505C-4FE9-9B9F-5010163CB6B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45879-4B37-4FB4-BDD8-CA3CCDE38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66DE1-BF1B-4FDC-B829-CE6046B9CB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4FE91-E8A1-4291-BD9B-24CCB2EFF3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16F80-E336-4145-AF5A-C44A042D4D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683FF-B461-4FBB-99C8-62F5CF99E7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EAEB9-361E-4FC2-9046-CF10E2C9B1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EF35A-A6A5-4D7D-AF7F-5005374BF50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5B301-9B0E-412A-996C-58D9BFB17D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06843-60C0-41E8-A821-D86D0D8FD2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E13D9-C19E-4C2A-A262-838086D62B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3D4C8-54CB-415D-B2A8-90B2D375B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CBA01-E8DA-42F6-A363-DB78270095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652F6-7F63-42E3-80AE-95AEF8706E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DF2BB-867E-4D3D-8DEC-EB158C4B0A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0340-3CB5-44EA-8E46-BA837568A1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6F05-2283-4758-A12C-97745741E9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4141-5400-4055-B8BE-4CFD904A30D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CB6C-4A54-4BEE-BABF-6E0348743E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1268-221B-4BC6-AF78-D167485F24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E24AE-E0E3-400C-9BCD-52C18C5CFA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F032-9E38-4FE9-8983-2F3236012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3262-BEF0-4878-98E7-A267156E2C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9F15-6672-4000-B4D4-BD031CE933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C93B-F68A-445A-B59E-2A4E8F4DAA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FFBC-48B6-449B-AAE4-8F04183FBF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D308-FF69-4CB9-B288-2797899F34A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E0110-E670-4721-A363-B9832407D5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557E5-3876-4591-A421-B5530087BD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2D026-67DD-49FF-A0AD-97F1383B0E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73048-F029-495A-90BD-1983C29AE34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546EE-6D3A-4E6F-8EC5-FC05960B5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0608D-15A9-4996-84D4-6D26BE596C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E996E-0E99-4111-BD11-A1286FB6B8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344CA-975A-45C6-8416-3357CC2C14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1034A-7F1F-4338-8758-F738222C0E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BF597-3ABF-403A-8CF5-5CBE56E2C9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000AB-BF96-4E46-8584-342329091B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8441B-1B93-4CE7-80CF-EAAEEAEC55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F8D8D-C052-43BB-B71D-FE690693F8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F0DE25-D887-4D5C-AE3D-1B19D1CBBD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3D64AD-7DC9-4B61-8451-CE14EB400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9DE-F08F-46F3-9CF8-8D3B56F457E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425-A85D-47EF-A18F-43CCBCF591B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6923-F1BC-47FA-895D-A2DF8BAFA0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0D8-0ED0-4EA6-9FC2-EFA4149B085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B30-9B5A-4A87-8663-ACBF94D9E85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83D-D41A-4F93-9DF5-D94DE15E824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F0F-114B-4F44-A0D7-9B36CE0CB3A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E68-E0B5-43D1-BA8D-76AFCF1CF00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369B-BFCA-491C-AFFF-C4AED8A36D0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1CA1-F39E-4C5B-A0D2-11E47960EB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197000"/>
            <a:ext cx="821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Ergonomia olistic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Luigi Bandini Bu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2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/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440" y="1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Tematico-Strumenta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06864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CasellaDiTesto 5"/>
          <p:cNvSpPr/>
          <p:nvPr/>
        </p:nvSpPr>
        <p:spPr>
          <a:xfrm>
            <a:off x="539640" y="3780000"/>
            <a:ext cx="828036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Che cos’è l’Ergonomia Olistica?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ERGONOMIA OLISTICA SUPERA LA SFERA FISICA E FISIOLOGICA DELL’ERGONOMIA “CLASSICA” PER INTERESSARSI DELLA SFERA MENTALE: CIÒ CHE L’UOMO PENSA, CONOSCE, RICONOSCE, DESIDERA, ABBISOGNA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00000"/>
                </a:solidFill>
                <a:latin typeface="Arial"/>
              </a:rPr>
              <a:t>IL CORSO PUÒ ESSERE PROPEDEUTICO AL CORSO EROGATO NEL SECONDO SEMESTRE  “DESIGN FOR ALL”  DA  AVRIL  ACCOLL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1358280" y="158760"/>
            <a:ext cx="57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Corsi a scelta di Area Tematico-Strumenta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9 settembre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68360" y="1268280"/>
            <a:ext cx="835164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Obbiettivi del cors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CORSO SI PROPONE DI APPROFONDIRE I MEZZI E I METODI NECESSARI AD INTRODURRE I FATTORI UMANI NELLA PROGETTAZION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PRODOTTI, AMBIENTI E SISTEM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VALUTAZIONE FINALE SARÀ DETERMINATA DAI RISULTATI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DUE ESERCIZI SVOLTI NEL CORSO DELL'ANNO  E DI UNA PROVA DI COMPRENSIONE DEGLI ARGOMENTI TRATTATI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b7d"/>
                </a:solidFill>
                <a:latin typeface="Arial"/>
              </a:rPr>
              <a:t>LA FREQUENZA È INDISPENSABILE PER L'APPRENDIMENTO DEGLI  ARGOMENTI TRATTATI IN AULA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UIGI BANDINBI BU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CHITETTO - ERGONOMO EUROPEO - NEL 1970 FONDA  LA  SOCIETÀ DI ERGONOMIA  APPLICATA  - VICEPRESIDENTE COMMISSIONE ERGONOMIA UNI - PAST PRESIDENT DESIGN FOR ALL ITALIA - GIA’ PRESIDENTE ADI - GIA’ PRESIDENTE SIE E ORA SOCIO ONORARI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ttangolo 1"/>
          <p:cNvSpPr/>
          <p:nvPr/>
        </p:nvSpPr>
        <p:spPr>
          <a:xfrm>
            <a:off x="2158920" y="1052640"/>
            <a:ext cx="69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L. Bandini Buti, “Ergonomia olistica”, Franco Angeli Editori, 2008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A .Accolla, “ Design for All”,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 Angeli Editori, 2009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L. Bandini Buti, “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FOR ALL- Aree di ristoro -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Il caso Autogrill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”, Maggioli Editore, in corso di stamp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Hall E.T., La dimensione nascosta, - Bompiani, 200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Norman D.A., La caffettiera del masochista, Giunti, Firenze, 199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Arial"/>
              </a:rPr>
              <a:t>Norman D.A., Emotional Design, Apogeo, Milano 2004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0" name="Picture 6" descr="Ergonomia Olistica copertina"/>
          <p:cNvPicPr/>
          <p:nvPr/>
        </p:nvPicPr>
        <p:blipFill>
          <a:blip r:embed="rId1"/>
          <a:stretch/>
        </p:blipFill>
        <p:spPr>
          <a:xfrm>
            <a:off x="2313000" y="2637000"/>
            <a:ext cx="1368360" cy="2001600"/>
          </a:xfrm>
          <a:prstGeom prst="rect">
            <a:avLst/>
          </a:prstGeom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61" name="Picture 7" descr="Design For All copertina 2KB"/>
          <p:cNvPicPr/>
          <p:nvPr/>
        </p:nvPicPr>
        <p:blipFill>
          <a:blip r:embed="rId2"/>
          <a:stretch/>
        </p:blipFill>
        <p:spPr>
          <a:xfrm>
            <a:off x="3897360" y="2637000"/>
            <a:ext cx="1395360" cy="2016000"/>
          </a:xfrm>
          <a:prstGeom prst="rect">
            <a:avLst/>
          </a:prstGeom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2" name="CasellaDiTesto 7"/>
          <p:cNvSpPr/>
          <p:nvPr/>
        </p:nvSpPr>
        <p:spPr>
          <a:xfrm>
            <a:off x="179280" y="1125360"/>
            <a:ext cx="1944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Verdana"/>
              </a:rPr>
              <a:t>TESTI PER L’ESAM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Verdana"/>
              </a:rPr>
              <a:t>VOLUMI CONSIGLIA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De Carli</cp:lastModifiedBy>
  <cp:lastPrinted>2003-05-08T11:08:41Z</cp:lastPrinted>
  <dcterms:modified xsi:type="dcterms:W3CDTF">2014-09-05T12:05:31Z</dcterms:modified>
  <cp:revision>203</cp:revision>
  <dc:subject/>
  <dc:title>Inserire immagine della locandina, possibilmente in trasparenza e aggiungere Facoltà di Architettura Illustrazione prova di ammissione prof. Silvia Piardi (idem Cedolin)</dc:title>
</cp:coreProperties>
</file>